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.jpeg" ContentType="image/jpeg"/>
  <Override PartName="/ppt/media/image7.png" ContentType="image/png"/>
  <Override PartName="/ppt/media/image37.png" ContentType="image/png"/>
  <Override PartName="/ppt/media/image14.jpeg" ContentType="image/jpeg"/>
  <Override PartName="/ppt/media/image8.png" ContentType="image/png"/>
  <Override PartName="/ppt/media/image38.png" ContentType="image/png"/>
  <Override PartName="/ppt/media/image9.jpeg" ContentType="image/jpeg"/>
  <Override PartName="/ppt/media/image40.png" ContentType="image/png"/>
  <Override PartName="/ppt/media/image31.png" ContentType="image/png"/>
  <Override PartName="/ppt/media/image35.png" ContentType="image/png"/>
  <Override PartName="/ppt/media/image5.jpeg" ContentType="image/jpeg"/>
  <Override PartName="/ppt/media/image41.png" ContentType="image/png"/>
  <Override PartName="/ppt/media/image22.jpeg" ContentType="image/jpeg"/>
  <Override PartName="/ppt/media/image39.png" ContentType="image/png"/>
  <Override PartName="/ppt/media/image30.png" ContentType="image/png"/>
  <Override PartName="/ppt/media/image10.jpeg" ContentType="image/jpeg"/>
  <Override PartName="/ppt/media/image28.png" ContentType="image/png"/>
  <Override PartName="/ppt/media/image42.png" ContentType="image/png"/>
  <Override PartName="/ppt/media/image6.png" ContentType="image/png"/>
  <Override PartName="/ppt/media/image36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5506-A05E-4CC6-A98B-66A1A93BA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4DFB-9E0A-47F8-A56A-66215274E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BAAA-5366-44C0-B4FD-3D3D87299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0CBC-C1CC-4989-99A8-DE5F31B5B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625D-D814-4058-95B1-118D52297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A5AE-1572-4BA2-BE59-25D1DDE958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A4E6-06B6-4594-9C00-B5B72DBD3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6151-714A-4BF3-9538-1FEC5E3A2F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8F18-CF03-4A30-B7FA-2A6949ABC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49B3-A5DC-45C2-BB64-13EFE53384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8814-46F6-47D6-A0BD-CF4898CAEA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1130-07B8-49A3-A088-25DF5BD31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D8E3-246D-46D7-A535-46085F6DB4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CABC-0F13-4406-BE9E-9B817B1B3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ACF7-90A0-4615-BEAA-4AB8EEB6C9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B4B8-9C8C-4EC0-843C-5E9B1A2E6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CBA7-F355-4FEF-B627-51CD98A674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606E-6BC4-4CDF-867C-4868125FC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9493-3645-451F-AE5D-4465B7E45C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B04E-4EA3-481F-B402-2B1E0A9A6E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2CBF-9E94-4217-A8DF-204BB41A7D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47BE-AA8C-40BE-828F-8858534B88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9863-5B67-4E52-BC3D-49BA4E962A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E6B8-F372-46BB-98AB-B9C6C78A89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6CAC-965F-470F-993C-5966A52B93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6009-88F1-47DF-8F97-675FB03801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732B-CF90-4393-8011-88DAD097D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0495-B542-48E1-97EE-CA64E8B72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A483-F00C-4FAE-B04F-571631173F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3EA3-D6B7-46CA-890B-2F1C442B3E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BC98-146A-49BA-B3A7-5CC16DC43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B36D-0158-4B27-A8AD-EAC938D5C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BE9C-D8F5-4748-910B-BBD5A70826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43E5-4C71-42C6-AE9D-18543CF0BF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25EF-5877-496D-8446-812824928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141E-8ECA-4855-BCB4-438F29342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7279-91F9-4309-B578-E294EEC49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847E-2F3D-4BE3-931E-F8E9BA6EAF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D1AE-CE78-46E8-A8E4-243EC279EE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1CE8-199B-480F-8DB7-FE8C3BD622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E690-F184-44F8-B984-DB2D02B69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2858-6D96-4F6A-AC61-9EF39B72AF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C61C-1A6C-4A0F-A631-172FC7EC9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DF54-FACF-4352-BD6D-6C95EB434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44AB-7645-4726-BAF0-C33298C50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E75A-967C-4E09-9BB2-F8DC7DFE6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34B1-62DF-4EA6-A6AD-CD8E253B9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EBBB-B825-4CFA-8D4C-21EC15679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353A-FBB7-4D4E-8EDF-D0CB5D3D3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399C-5799-4BF9-8999-88FFA5DE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0A62-A704-4B72-B02E-405A6DFE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A0E2-FD4C-4FF4-8550-BBAB3005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04A0-9299-4EA1-B108-251D1A19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BDB0-ABCE-4C48-B6FB-14316137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58B4-D549-41E5-AD25-A0856832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9991-4A42-4262-B97E-89AF9325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3B56-36A5-4817-A765-77B31B17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BA42-D8FB-4B22-9049-4D74C344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B6D7-0FC8-4E65-9B39-3431D50E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EB4F-EB84-428F-BF43-5F7AB3A9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F979-4FDB-4AF1-B8E2-80C0F738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C425-81FF-4A52-9EA2-A67FFF43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68B5-9A59-4660-9498-EA848802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59B2-A207-4346-B73A-0D3A9EDF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5DFD-F3A8-44CD-BD98-B912364B7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D8DF-6C7A-4C2D-A15B-C8C15E1F6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2344F-7BB3-475B-B38B-4A3C7F03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B06B2-B3D6-4218-8BEC-2BFAC252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5DA38-DA3F-484A-8D00-D431070F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1C724-00E0-46D3-9A17-BF688FAE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BB6AF-C8E8-4F56-A0A5-D99122B7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4BAC-C61B-43A4-9C53-E3E5751B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57B0A-28A9-441D-ACAE-3DE116B4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491F3-79C0-4D73-ACFD-6A0D10FD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E3928-88D7-4C10-B805-CF0FE645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2E738-1646-4C98-943F-25D43EB6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43992-0C89-42FF-91F9-BDE422F3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13A43-61C5-4702-8068-0089CBD8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E5896-0B22-435B-BE2A-E68CC735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B22C8-C7A3-495D-B55B-ACBAB02A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82EC2-4856-4D60-A4E3-CFE4220A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CC1E9-1241-43D6-BAF3-3D6D4E50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3B67-69ED-4A2A-B030-0AE424CD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2D9EF-2ECD-418A-BB06-83988FC1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8CB51-BB1F-4835-BC67-93D4ED33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689F8-6927-4F20-A82B-1EBC71C9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26CE7-B2AE-4109-B418-94381179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44BB4-2DB6-47F2-BA4F-9E65D24F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85D07-66C2-47BF-B054-D9B8EC5F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B7A78-FBA0-48EB-ADEF-E3C86432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58797-E67A-484D-8D72-1B0CE3F2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01B57-82FE-494E-B910-FAD5F9B6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3BF22-92A4-4954-A735-9BE34A52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BD27-E752-4440-ABA7-43C01260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5B67F-CF43-46E3-AB23-F16E8AAE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189B3-0E93-41E7-BCDC-F4899CA3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7DF61-4B61-4793-907B-506E32BD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2A877-AE36-4DF2-AFBF-C64BCF69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6752E-330A-485F-92D1-475E28CC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29B21-4EC1-481E-A70E-9FFABB71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A16D2-5703-4217-8D09-B30137D2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CC273-1C99-422B-9387-9A640C91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990C5-7763-4099-9DF8-A7D20434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0BE02-0EBC-40BE-876A-E1DEFD7E5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DF3C-2109-44AD-85C4-7B0414F4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30A1C-21E3-4936-A133-CE3D8B74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8CDC5-6718-4415-ACC3-3260AA185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5FEC0-E99D-4B42-A55F-6FA39ACD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3935C-A849-4FD3-AA16-364F71B5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2E285-E728-4346-BA8F-2C8C78E0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FB0A4-AE89-40E3-A3A2-B3E2EE3C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0998C-CD21-47D1-A7E6-1F71455C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71AD5-B87B-464A-8FCB-8FE5BE16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3CD49-8609-4E7E-9CA1-024FA792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0C880-6D04-426E-B9F6-42D9AB96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B085-8E8D-445E-B508-A8DEC303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CF249-B934-4440-9778-BF417301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EC1D6-3F8D-4F10-B02A-50A829B0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F8E93-196F-43BA-A73A-76953356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9A2A1-46A2-4AB3-B7E7-780B1F16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FA9AC-063F-4D2F-8AB9-C1D96540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3C9A2-5D9B-409F-97AD-C18BDDE7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FE72D-D97A-44DC-80A4-A3B989AF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4201F-59C2-471D-B19E-5E302088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8E0FA-16FE-42E7-9C8F-946ADF58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0A531-E59D-46C0-8CC7-1269DB84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DF22-E154-4BD3-AA10-4EB6BAA6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4C8FF-EE8E-4831-9D2D-CBBA7999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269A3-DA33-4B55-B012-5FD621F1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10713-D256-4EDC-9381-3303005E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F655B-F3CD-43FA-8AB7-45F79280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665CE-AD5D-4231-AF58-ED9DC1E3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BE1B-EB64-4F41-8251-3A35D7E2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3614-0F56-4D67-8F42-F45DB77A214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AD52-09D0-4AA0-88B0-73619F7DF8D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25B0-5A25-4267-8E6B-24CEC329BAB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4D8C-0136-4C2F-BA0D-2B7EE5FECF9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6812-2804-43DE-87E8-EC0E7D36D23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1926-5549-44F4-94F3-9EB933C18AA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A084-9FFD-43A4-9DA2-B765A06C80D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cssa.org/newsroom/scholarships/great8sci/Earth/RocksMinerals/RocksMinerals/Rocks/Metamorphic_Rock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kimages.com/discover/previews/1051/25002102.JPG&amp;imgrefurl=http://www.dkimages.com/discover/DKIMAGES/Discover/Home/Science/Earth-Sciences/Geology/Rocks/Sedimentary/Conglomerates/Conglomerates-5.html&amp;usg=__HhCpI4yffmmHtG9zIopX6rkqr0s=&amp;h=768&amp;w=683&amp;sz=86&amp;hl=en&amp;start=6&amp;um=1&amp;tbnid=MOl2g6fpD1LvwM:&amp;tbnh=142&amp;tbnw=126&amp;prev=/images?q=conglomerate+rock&amp;hl=en&amp;rls=com.microsoft:en-US&amp;um=1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/imgres?imgurl=http://www.bullionmm.com/images/shale.jpg&amp;imgrefurl=http://www.bullionmm.com/properties/enshale.php&amp;usg=__XjLlIADKMuRB2RTxHu6Wg0bfIFc=&amp;h=655&amp;w=677&amp;sz=28&amp;hl=en&amp;start=18&amp;um=1&amp;tbnid=Ob1mwUz6Q4pRDM:&amp;tbnh=134&amp;tbnw=139&amp;prev=/images?q=shale+rock&amp;hl=en&amp;rls=com.microsoft:en-US&amp;um=1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m/imgres?imgurl=http://www.uwec.edu/runningl/Trina&apos;s%20web%20stuff/group%208%20pit%208/images/sandstone.jpeg&amp;imgrefurl=http://www.uwec.edu/runningl/Trina&apos;s%20web%20stuff/main%20pages/physical%20setting.htm&amp;usg=__Z0Q6WSlROd5Bl65tlQjeS_BJ1Kg=&amp;h=338&amp;w=450&amp;sz=159&amp;hl=en&amp;start=2&amp;um=1&amp;tbnid=FMRPjYPAzIEVCM:&amp;tbnh=95&amp;tbnw=127&amp;prev=/images?q=sandstone+rock&amp;hl=en&amp;rls=com.microsoft:en-US&amp;sa=X&amp;um=1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images.google.com/imgres?imgurl=http://geology.com/rocks/pictures/breccia.jpg&amp;imgrefurl=http://geology.com/rocks/sedimentary-rocks.shtml&amp;usg=__vWxYo_mWOq4_etiYidyV174Sk7Q=&amp;h=420&amp;w=560&amp;sz=46&amp;hl=en&amp;start=2&amp;um=1&amp;tbnid=IPXsItQkGeAAEM:&amp;tbnh=100&amp;tbnw=133&amp;prev=/images?q=breccia+rock&amp;hl=en&amp;rls=com.microsoft:en-US&amp;um=1" TargetMode="External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7/72/Coal_anthracite.jpg&amp;imgrefurl=http://commons.wikimedia.org/wiki/File:Coal_anthracite.jpg&amp;usg=___ynT4TuJC3JQ3WoaeyaqxHmF_d8=&amp;h=337&amp;w=360&amp;sz=29&amp;hl=en&amp;start=4&amp;um=1&amp;tbnid=gV17zMQ25mjZzM:&amp;tbnh=113&amp;tbnw=121&amp;prev=/images?q=coal&amp;hl=en&amp;rls=com.microsoft:en-US&amp;um=1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ages.google.com/imgres?imgurl=http://jg.msdpt.k12.in.us/Technology/images/Limestone.jpg&amp;imgrefurl=http://jg.msdpt.k12.in.us/Technology/Indiana.htm&amp;usg=__xBDtbM26d_5gw3hCxK8fc-lc9Pw=&amp;h=328&amp;w=360&amp;sz=35&amp;hl=en&amp;start=2&amp;um=1&amp;tbnid=gISTmU5PZHk4KM:&amp;tbnh=110&amp;tbnw=121&amp;prev=/images?q=limestone&amp;hl=en&amp;rls=com.microsoft:en-US&amp;um=1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pi.usra.edu/education/fieldtrips/2005/images/tufa_1.jpg&amp;imgrefurl=http://www.lpi.usra.edu/education/fieldtrips/2005/tufa.html&amp;usg=__SiKUF_TYFOxIbWExXyCYWMe-oWU=&amp;h=344&amp;w=458&amp;sz=21&amp;hl=en&amp;start=1&amp;um=1&amp;tbnid=7l0HvxQOU7SvWM:&amp;tbnh=96&amp;tbnw=128&amp;prev=/images?q=tufa&amp;hl=en&amp;rls=com.microsoft:en-US&amp;um=1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2314"/>
                </a:solidFill>
                <a:latin typeface="Gill Sans MT"/>
              </a:rPr>
              <a:t>Rock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Chapter 4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4.2- Uses of Igneous Rock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uilding materials- granite used in curbstones, floors, and kitchen counters; Egyptians used granite for statu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eaning and polish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ols for cutting and scrap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9" name="Picture 2" descr="http://granitecountertopinfo.com/wp-content/uploads/2008/11/granite_size2.jpg"/>
          <p:cNvPicPr/>
          <p:nvPr/>
        </p:nvPicPr>
        <p:blipFill>
          <a:blip r:embed="rId1"/>
          <a:stretch/>
        </p:blipFill>
        <p:spPr>
          <a:xfrm>
            <a:off x="3657600" y="4572000"/>
            <a:ext cx="251460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4.5- Metamorphic Rock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Meta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meaning “change” and 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morphosi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meaning “form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at and pressure deep beneath Earth’s surface can change any rock into metamorphic roc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change igneous, sedimentary, and other metamorphic roc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2" name="Picture 2" descr="Metamorphic Ro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4572000"/>
            <a:ext cx="21812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4.5- Types of Metamorphic Rock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ologists classify metamorphic rocks according to the arrangement of the grains that make up the rock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liated rocks- grains arranged in parallel layers or bands; may split apart along these ban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. Slate, schist, and gnei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nfoliated rocks- mineral grains arranged randomly; do not split apa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. Marble and quartzi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4.5- Uses of Metamorphic Rock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mportant materials for building and sculptu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rble and sl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7" name="Picture 2" descr="http://symonsez.files.wordpress.com/2009/02/lincoln-memorial.jpg"/>
          <p:cNvPicPr/>
          <p:nvPr/>
        </p:nvPicPr>
        <p:blipFill>
          <a:blip r:embed="rId1"/>
          <a:stretch/>
        </p:blipFill>
        <p:spPr>
          <a:xfrm>
            <a:off x="2666880" y="3276720"/>
            <a:ext cx="414036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4.3- Sedimentary Rock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adlands National Par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edimen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small, solid pieces of material that come from rocks or living thing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y also include shells, bones, leaves, stems, and other remains of living th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4.3- Sedimentary Rock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ost sedimentary rocks are formed through a series of processes: erosion, deposition, compaction, and cement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915840" indent="-51408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structive forces are constantly breaking up and wearing away all the rocks on Earth’s surface (include heat, cold, rain, waves, ice); the loosening and carrying away of fragments of rock is call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eros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5840" indent="-51408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4.3- Sedimentary Rock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61120" indent="-5090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moving wind, water, and ice slows and deposits the sediments in layers. The process by which sediment settles out of the wind or water carrying it is calle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deposition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1120" indent="-5090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process that presses sediments together i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compaction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The weight of new layers further compacts sedimen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1120" indent="-5090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minerals in the rock slowly dissolve in the water. The process in which dissolved minerals crystallize and glue particles of sediment together is calle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Gill Sans MT"/>
              </a:rPr>
              <a:t>cementation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4.3- Types of Sedimentary Rock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re are three major groups of sedimentary rock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915840" indent="-51408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astic roc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5840" indent="-51408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rganic roc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5840" indent="-51408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emical roc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5840" indent="-514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fferent processes form each of these types of sedimentary roc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4.3- Types of Sedimentary Rock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astic Rocks- forms when rock fragments are squeezed togeth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rouped by the size of the rock fragments or particles which they are mad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. Shale, sandstone, conglomerate, brecc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8" name="Picture 2" descr="http://t2.gstatic.com/images?q=tbn:MOl2g6fpD1LvwM:http://www.dkimages.com/discover/previews/1051/250021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4191120"/>
            <a:ext cx="1657440" cy="18684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http://t2.gstatic.com/images?q=tbn:Ob1mwUz6Q4pRDM:http://www.bullionmm.com/images/shal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9320" y="4191120"/>
            <a:ext cx="1738080" cy="16761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http://t3.gstatic.com/images?q=tbn:FMRPjYPAzIEVCM:http://www.uwec.edu/runningl/Trina%27s%2520web%2520stuff/group%25208%2520pit%25208/images/sandstone.jpe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419720"/>
            <a:ext cx="1833480" cy="13716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8" descr="http://t0.gstatic.com/images?q=tbn:IPXsItQkGeAAEM:http://geology.com/rocks/pictures/breccia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81680" y="4267080"/>
            <a:ext cx="19256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4.3- Types of Sedimentary Rock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ganic Rocks- forms where the remains of plants and animals are deposited in thick lay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rganic”- were once part of living things or were made by living th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. Coal and limesto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4" name="Picture 2" descr="http://t3.gstatic.com/images?q=tbn:gV17zMQ25mjZzM:http://upload.wikimedia.org/wikipedia/commons/7/72/Coal_anthracit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4495680"/>
            <a:ext cx="2057400" cy="19209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http://t3.gstatic.com/images?q=tbn:gISTmU5PZHk4KM:http://jg.msdpt.k12.in.us/Technology/images/Limeston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4572000"/>
            <a:ext cx="18446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4.1-Classifying Rock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studying a rock sample, geologists observe the rock’s mineral composition, color, and textu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Picture 2" descr="http://www.lab-aids.com/images/catalog/403S.jpg"/>
          <p:cNvPicPr/>
          <p:nvPr/>
        </p:nvPicPr>
        <p:blipFill>
          <a:blip r:embed="rId1"/>
          <a:stretch/>
        </p:blipFill>
        <p:spPr>
          <a:xfrm>
            <a:off x="3581280" y="3084480"/>
            <a:ext cx="370548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4.3- Types of Sedimentary Rock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emical Rocks- forms when minerals that are dissolved in a solution crystalliz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also form from mineral deposits left when seas or lakes evaporat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8" name="Picture 2" descr="http://t3.gstatic.com/images?q=tbn:7l0HvxQOU7SvWM:http://www.lpi.usra.edu/education/fieldtrips/2005/images/tufa_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36576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4.3- Uses of Sedimentary Rock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371240" y="14475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sed for many different purposes, including building materials and too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.  Arrowheads, cement, ste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1" name="Picture 2" descr="http://t0.gstatic.com/images?q=tbn:Vr6IzS-9ksliBM:http://img.alibaba.com/photo/11084618/Arrowheads.jpg"/>
          <p:cNvPicPr/>
          <p:nvPr/>
        </p:nvPicPr>
        <p:blipFill>
          <a:blip r:embed="rId1"/>
          <a:stretch/>
        </p:blipFill>
        <p:spPr>
          <a:xfrm>
            <a:off x="1600200" y="3352680"/>
            <a:ext cx="1042920" cy="17431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http://t0.gstatic.com/images?q=tbn:SvDkgh8oOziLYM:http://www.acegrinding.com/images/stainless_steel_rods.jpg"/>
          <p:cNvPicPr/>
          <p:nvPr/>
        </p:nvPicPr>
        <p:blipFill>
          <a:blip r:embed="rId2"/>
          <a:stretch/>
        </p:blipFill>
        <p:spPr>
          <a:xfrm>
            <a:off x="5867280" y="32767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http://t0.gstatic.com/images?q=tbn:CtpIbcig2NBTxM:http://www.canoe.skule.ca/drupal/files/u1/cement.JPG"/>
          <p:cNvPicPr/>
          <p:nvPr/>
        </p:nvPicPr>
        <p:blipFill>
          <a:blip r:embed="rId3"/>
          <a:stretch/>
        </p:blipFill>
        <p:spPr>
          <a:xfrm>
            <a:off x="3200400" y="3657600"/>
            <a:ext cx="2036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ocks and Weathering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Chapter 8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8.1- Rocks and Weather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Weathering-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process that breaks down rock and other substances at Earth’s surfac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eat, cold, water, oxygen, carbon dioxid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Erosio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the removal of rock particles by wind, water, ice, or grav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athering and Erosion work together to continuously to wear down and carry away the rocks at Earth’s surfa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8.1- Weathering and Eros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Uniformitarianism-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he principal that states that the same processes that operate today operated in the pa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wo types of weathering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915840" indent="-51408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chanical weather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5840" indent="-51408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emical weather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5840" indent="-51408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8.1-Mechanical Weather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e type of weathering in which rock is physically broken into smaller piec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till have the same composition of the rock they came from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orks slowly, over long periods of tim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auses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clude freezing and thawing (ice wedging), release of pressure, plant growth, actions of animals, and abrasion (grinding away of rock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8.1- Chemical Weather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process that breaks down rock through chemical chang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produce new minerals as it breaks dow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us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action of water, oxygen, carbon dioxide, living organisms, and acid rai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emical and mechanical weathering often work togeth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8.1-Chemical Weather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auses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ater- weathers rock by dissolving 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xygen- iron combines with oxygen in the presence of water in a process of oxidation= ru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rbon Dioxide- dissolves in rainwater and sinks through air pockets in the soi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iving Organisms- as plant roots grow, they produce weak acids that slowly dissolve roc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cid Rain- compounds react chemically with water vapor in clouds, forming acid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8.1- Rate of Weathering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he most important factors that determine the rate at which weathering occurs are the type of rock and the climat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ype of Rock: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ermeable- a material is full of tiny, connected air spaces that allow water to seep through 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Climate: average weather conditions in an area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et climates, higher temperatur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9.0- Erosion and Deposi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Erosion-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he process by which natural forces move weathered rock and soil from one place to another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. Agents (causes a change in Earth’s surface)- gravity, running water, glaciers, waves, wi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Sediment-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the material moved by erosio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Deposition-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occurs where the agents of erosion, deposit, or lay down sediment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4.1-Mineral Composition and Color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bout 20 minerals make up most of the rocks of Earth’s cru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nown as rock-forming minera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rock’s color provides clues to the rock’s mineral composi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ranite- light-colored rock with high silica cont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asalt- dark-colored rock low in silic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9.1- Changing Earth’s Surfa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371240" y="114264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athering, erosion, and deposition act together in a cycle that wears down and builds up Earth’s surfa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ass movement-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y one of several processes that move sediment downhill caused by grav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andslides, mudflows, slump, and cree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2" name="Picture 10" descr="EroDepo_Cycle4_sx6988b3"/>
          <p:cNvPicPr/>
          <p:nvPr/>
        </p:nvPicPr>
        <p:blipFill>
          <a:blip r:embed="rId1"/>
          <a:stretch/>
        </p:blipFill>
        <p:spPr>
          <a:xfrm>
            <a:off x="2362320" y="4419720"/>
            <a:ext cx="510516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9.1-Changing Earth’s Surfac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404" name="Group 16"/>
          <p:cNvGrpSpPr/>
          <p:nvPr/>
        </p:nvGrpSpPr>
        <p:grpSpPr>
          <a:xfrm>
            <a:off x="2209680" y="1828800"/>
            <a:ext cx="4876560" cy="4114440"/>
            <a:chOff x="2209680" y="1828800"/>
            <a:chExt cx="4876560" cy="4114440"/>
          </a:xfrm>
        </p:grpSpPr>
        <p:sp>
          <p:nvSpPr>
            <p:cNvPr id="405" name="Rectangle 15"/>
            <p:cNvSpPr/>
            <p:nvPr/>
          </p:nvSpPr>
          <p:spPr>
            <a:xfrm>
              <a:off x="2209680" y="1828800"/>
              <a:ext cx="3172680" cy="3987720"/>
            </a:xfrm>
            <a:prstGeom prst="rect">
              <a:avLst/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06" name="Picture 12" descr="EroDepo_Creep_sx6993a3"/>
            <p:cNvPicPr/>
            <p:nvPr/>
          </p:nvPicPr>
          <p:blipFill>
            <a:blip r:embed="rId1"/>
            <a:stretch/>
          </p:blipFill>
          <p:spPr>
            <a:xfrm>
              <a:off x="2246400" y="2443320"/>
              <a:ext cx="4839840" cy="349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9.2- Water Eros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Moving water is a major agent of the erosion that has shaped Earth’s land surfac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Runoff-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water that moves over Earth’s surfac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mount of runoff: depends on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870120" indent="-514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mount of rai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70120" indent="-514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eget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70120" indent="-514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ype of soi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70120" indent="-514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hape of the la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70120" indent="-51444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ow people use the la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9.2- Water Eros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447560" y="13712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ater flowing across the land runs together to form rills, gullies, and stream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1" name="Picture 6" descr="EroDepo_Gully_sx6994b3"/>
          <p:cNvPicPr/>
          <p:nvPr/>
        </p:nvPicPr>
        <p:blipFill>
          <a:blip r:embed="rId1"/>
          <a:stretch/>
        </p:blipFill>
        <p:spPr>
          <a:xfrm>
            <a:off x="3505320" y="2514600"/>
            <a:ext cx="4176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9.2- Erosion by Rive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rough erosion, a river creates valleys, waterfalls, flood plains, meanders, and oxbow lak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eander-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oop-like bend in the course of a riv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Oxbow lakes-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a meander that has been cut off from the riv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9.2- Deposits of Rive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position creates landforms such as alluvial fans and deltas. It can also add soil to a river’s flood pla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Alluvial fans-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wide, sloping deposit of sediment formed where a stream leaves a mountain rang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Delta-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ediment deposited where a river flows into an ocean or lake builds up a landfor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9.2- Course of a Riv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295280" y="1447560"/>
            <a:ext cx="3213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slope and size of a river, as well as the sediment it carries, determine how a river shapes the land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18" name="Group 12"/>
          <p:cNvGrpSpPr/>
          <p:nvPr/>
        </p:nvGrpSpPr>
        <p:grpSpPr>
          <a:xfrm>
            <a:off x="4419720" y="1447920"/>
            <a:ext cx="4495680" cy="4952880"/>
            <a:chOff x="4419720" y="1447920"/>
            <a:chExt cx="4495680" cy="4952880"/>
          </a:xfrm>
        </p:grpSpPr>
        <p:sp>
          <p:nvSpPr>
            <p:cNvPr id="419" name="Rectangle 11"/>
            <p:cNvSpPr/>
            <p:nvPr/>
          </p:nvSpPr>
          <p:spPr>
            <a:xfrm>
              <a:off x="4419720" y="1447920"/>
              <a:ext cx="4495680" cy="4952880"/>
            </a:xfrm>
            <a:prstGeom prst="rect">
              <a:avLst/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20" name="Picture 8" descr="EroDepo_Course2_sx7007a3"/>
            <p:cNvPicPr/>
            <p:nvPr/>
          </p:nvPicPr>
          <p:blipFill>
            <a:blip r:embed="rId1"/>
            <a:stretch/>
          </p:blipFill>
          <p:spPr>
            <a:xfrm>
              <a:off x="4419720" y="1524240"/>
              <a:ext cx="4465440" cy="484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9.2- Groundwater Eros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Groundwater-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underground wat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roundwater can cause erosion through a process of chemical weather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ater + carbon dioxide= carbonic aci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talactite-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deposit that hangs from the roof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talagmite-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slow dripping  builds up a cone-shaped formation from the flo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9.3- The Force of Moving Water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ost sediment washes of falls into a river as a result of mass movement and runoff. Other sediment erodes from the bottom or sides of the rive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5" name="Picture 5" descr="EroDepo_Sediment1_sx7009b3"/>
          <p:cNvPicPr/>
          <p:nvPr/>
        </p:nvPicPr>
        <p:blipFill>
          <a:blip r:embed="rId1"/>
          <a:stretch/>
        </p:blipFill>
        <p:spPr>
          <a:xfrm>
            <a:off x="1882800" y="4573440"/>
            <a:ext cx="1774800" cy="15066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EroDepo_Sediment2_sx7009b3"/>
          <p:cNvPicPr/>
          <p:nvPr/>
        </p:nvPicPr>
        <p:blipFill>
          <a:blip r:embed="rId2"/>
          <a:stretch/>
        </p:blipFill>
        <p:spPr>
          <a:xfrm>
            <a:off x="3657600" y="4572000"/>
            <a:ext cx="1558800" cy="15066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EroDepo_Sediment3_sx7009b3"/>
          <p:cNvPicPr/>
          <p:nvPr/>
        </p:nvPicPr>
        <p:blipFill>
          <a:blip r:embed="rId3"/>
          <a:stretch/>
        </p:blipFill>
        <p:spPr>
          <a:xfrm>
            <a:off x="5214960" y="4572000"/>
            <a:ext cx="1290600" cy="15066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8" descr="EroDepo_Sediment4_sx7009b3"/>
          <p:cNvPicPr/>
          <p:nvPr/>
        </p:nvPicPr>
        <p:blipFill>
          <a:blip r:embed="rId4"/>
          <a:stretch/>
        </p:blipFill>
        <p:spPr>
          <a:xfrm>
            <a:off x="6504120" y="4572000"/>
            <a:ext cx="164916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9.3- The Force of Moving Water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434960" y="1447560"/>
            <a:ext cx="7499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river’s slope, volume of flow, and the shape of its streambed all affect how fast the river flows and how much sediment it can ero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1" name="Picture 10" descr="EroDepo_Slope_SX7010a3"/>
          <p:cNvPicPr/>
          <p:nvPr/>
        </p:nvPicPr>
        <p:blipFill>
          <a:blip r:embed="rId1"/>
          <a:stretch/>
        </p:blipFill>
        <p:spPr>
          <a:xfrm>
            <a:off x="2438280" y="3352680"/>
            <a:ext cx="5805720" cy="33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4.1-Textur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Grain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the particles of minerals or other rocks that make up rock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ive the rock its textu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Textur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- look and feel of the rock’s surfa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rain size- fine, course, no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rain shape- rounded or jagg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rain pattern- nonbanded or band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9.4- Glacier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Glaciers-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any large mass of ice that moves slowly over land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Two kinds of glaciers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tinental glacier- covers much of a continent of large isla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alley glacier- long, narrow glacier that forms when snow and ice build high in a mountain valle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orms only in an area where more snow falls than melts, snow compacts the snow at the bottom into ic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9.4- How Glaciers Shape the Land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434960" y="1447920"/>
            <a:ext cx="45849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s a glacier flows over land, it picks up rocks in a process call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ill Sans MT"/>
              </a:rPr>
              <a:t>pluck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a glacier melts it deposits the sediments it eroded from the land, creating various landform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6" name="Picture 6" descr="EroDepo_GEro-ntxt_SX7016a3"/>
          <p:cNvPicPr/>
          <p:nvPr/>
        </p:nvPicPr>
        <p:blipFill>
          <a:blip r:embed="rId1"/>
          <a:stretch/>
        </p:blipFill>
        <p:spPr>
          <a:xfrm>
            <a:off x="5791320" y="1600200"/>
            <a:ext cx="309060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9.4- Glacial Landform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371240" y="1143000"/>
            <a:ext cx="7497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s glaciers advance and retreat, they sculpt the landscape by erosion and deposi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39" name="Group 12"/>
          <p:cNvGrpSpPr/>
          <p:nvPr/>
        </p:nvGrpSpPr>
        <p:grpSpPr>
          <a:xfrm>
            <a:off x="2209680" y="2560680"/>
            <a:ext cx="6110280" cy="4297320"/>
            <a:chOff x="2209680" y="2560680"/>
            <a:chExt cx="6110280" cy="4297320"/>
          </a:xfrm>
        </p:grpSpPr>
        <p:sp>
          <p:nvSpPr>
            <p:cNvPr id="440" name="Rectangle 11"/>
            <p:cNvSpPr/>
            <p:nvPr/>
          </p:nvSpPr>
          <p:spPr>
            <a:xfrm>
              <a:off x="2674800" y="2560680"/>
              <a:ext cx="5181840" cy="4267080"/>
            </a:xfrm>
            <a:prstGeom prst="rect">
              <a:avLst/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41" name="Picture 10" descr="EroDepo_GLandforms2_sx7037a3"/>
            <p:cNvPicPr/>
            <p:nvPr/>
          </p:nvPicPr>
          <p:blipFill>
            <a:blip r:embed="rId1"/>
            <a:stretch/>
          </p:blipFill>
          <p:spPr>
            <a:xfrm>
              <a:off x="2209680" y="2606760"/>
              <a:ext cx="6110280" cy="4251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9.5- Wav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371240" y="11426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energy in waves comes from wind that blows across the water’s surfa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aves shape the coast through erosion by breaking down rock and transporting sand and other sedi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4" name="Picture 5" descr="EroDepo_WaveEro_SX7023a3"/>
          <p:cNvPicPr/>
          <p:nvPr/>
        </p:nvPicPr>
        <p:blipFill>
          <a:blip r:embed="rId1"/>
          <a:stretch/>
        </p:blipFill>
        <p:spPr>
          <a:xfrm>
            <a:off x="3200400" y="3666960"/>
            <a:ext cx="43117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9.5- Wav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447560" y="1142640"/>
            <a:ext cx="7497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aves shape a coast when they deposit sediment, forming coastal features such as beaches, spits, and barrier beach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7" name="Picture 6" descr="EroDepo_ChangingCoast2_sx7033b3"/>
          <p:cNvPicPr/>
          <p:nvPr/>
        </p:nvPicPr>
        <p:blipFill>
          <a:blip r:embed="rId1"/>
          <a:stretch/>
        </p:blipFill>
        <p:spPr>
          <a:xfrm>
            <a:off x="4191120" y="2666880"/>
            <a:ext cx="4647960" cy="3996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EroDepo_ChangingCoast1_sx7033b3"/>
          <p:cNvPicPr/>
          <p:nvPr/>
        </p:nvPicPr>
        <p:blipFill>
          <a:blip r:embed="rId2"/>
          <a:stretch/>
        </p:blipFill>
        <p:spPr>
          <a:xfrm>
            <a:off x="304920" y="2666880"/>
            <a:ext cx="3886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9.6- Wind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434600" y="1143000"/>
            <a:ext cx="7404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ind causes erosion by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flation-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the process by which wind removes surface materia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Abrasion-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ind-carried sand can polish rock, but it causes little eros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ind erosion and deposition may form sand dunes and loess deposi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1" name="Picture 5" descr="EroDepo_Wind-ntxt_SX7025a3"/>
          <p:cNvPicPr/>
          <p:nvPr/>
        </p:nvPicPr>
        <p:blipFill>
          <a:blip r:embed="rId1"/>
          <a:stretch/>
        </p:blipFill>
        <p:spPr>
          <a:xfrm>
            <a:off x="3733920" y="2971800"/>
            <a:ext cx="4883040" cy="34956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1" descr="EroDepo_Wind-text1_SX7025a3"/>
          <p:cNvPicPr/>
          <p:nvPr/>
        </p:nvPicPr>
        <p:blipFill>
          <a:blip r:embed="rId2"/>
          <a:stretch/>
        </p:blipFill>
        <p:spPr>
          <a:xfrm>
            <a:off x="4572000" y="3200400"/>
            <a:ext cx="1611360" cy="3888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7" descr="EroDepo_Wind-text2_SX7025a3"/>
          <p:cNvPicPr/>
          <p:nvPr/>
        </p:nvPicPr>
        <p:blipFill>
          <a:blip r:embed="rId3"/>
          <a:stretch/>
        </p:blipFill>
        <p:spPr>
          <a:xfrm>
            <a:off x="7467480" y="3809880"/>
            <a:ext cx="1090800" cy="5335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9" descr="EroDepo_Wind-text4_SX7025a3"/>
          <p:cNvPicPr/>
          <p:nvPr/>
        </p:nvPicPr>
        <p:blipFill>
          <a:blip r:embed="rId4"/>
          <a:stretch/>
        </p:blipFill>
        <p:spPr>
          <a:xfrm>
            <a:off x="6858000" y="5410080"/>
            <a:ext cx="1219320" cy="3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Water Cyc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the water cycle, water move from bodies of water, land, and living things on Earth’s surface to the atmosphere and back to Earth’s surfac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vapor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dens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ecipit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n’s energy drives the water cyc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Water Cyc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58" name="Picture 9" descr="H2OPlanet_CycleFull_sx6595a3"/>
          <p:cNvPicPr/>
          <p:nvPr/>
        </p:nvPicPr>
        <p:blipFill>
          <a:blip r:embed="rId1"/>
          <a:stretch/>
        </p:blipFill>
        <p:spPr>
          <a:xfrm>
            <a:off x="1371600" y="1371600"/>
            <a:ext cx="7397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4.6-The Rock Cycl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60" name="Picture 10" descr="Rocks_RockCycle_sx5297b3"/>
          <p:cNvPicPr/>
          <p:nvPr/>
        </p:nvPicPr>
        <p:blipFill>
          <a:blip r:embed="rId1"/>
          <a:stretch/>
        </p:blipFill>
        <p:spPr>
          <a:xfrm>
            <a:off x="2514600" y="1905120"/>
            <a:ext cx="4815000" cy="426060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5"/>
          <p:cNvSpPr/>
          <p:nvPr/>
        </p:nvSpPr>
        <p:spPr>
          <a:xfrm>
            <a:off x="1447920" y="121932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rces deep inside Earth and at the surface produce a slow cycle that builds, destroys, and changes the rocks in the crust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4.1- How Rocks For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ologists classify rocks into three major groups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Igneous roc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 forms from the cooling of magma or lav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Sedimentary roc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 forms when particles of other rocks or the remains of plants and animals are pressed and cemented togeth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Metamorphic roc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 forms when an existing rock is changed by heat, pressure, or chemical rea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4.1-How Rocks For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7" name="Picture 5" descr="Rocks_Igneous_sx5286b3"/>
          <p:cNvPicPr/>
          <p:nvPr/>
        </p:nvPicPr>
        <p:blipFill>
          <a:blip r:embed="rId1"/>
          <a:stretch/>
        </p:blipFill>
        <p:spPr>
          <a:xfrm>
            <a:off x="1143000" y="1523880"/>
            <a:ext cx="3359160" cy="40770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6" descr="Rocks_sedimentary_sx5286b3"/>
          <p:cNvPicPr/>
          <p:nvPr/>
        </p:nvPicPr>
        <p:blipFill>
          <a:blip r:embed="rId2"/>
          <a:stretch/>
        </p:blipFill>
        <p:spPr>
          <a:xfrm>
            <a:off x="4876920" y="4191120"/>
            <a:ext cx="2333520" cy="21970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Rocks_metamorphic_sx5286b3"/>
          <p:cNvPicPr/>
          <p:nvPr/>
        </p:nvPicPr>
        <p:blipFill>
          <a:blip r:embed="rId3"/>
          <a:stretch/>
        </p:blipFill>
        <p:spPr>
          <a:xfrm>
            <a:off x="6324480" y="1447920"/>
            <a:ext cx="24465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4.2- Igneous Rock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gneous rock is any rock that forms from magma or lav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me comes from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igni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meaning “fire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2" name="Picture 2" descr="http://library.thinkquest.org/05aug/00461/images/igneous.jpg"/>
          <p:cNvPicPr/>
          <p:nvPr/>
        </p:nvPicPr>
        <p:blipFill>
          <a:blip r:embed="rId1"/>
          <a:stretch/>
        </p:blipFill>
        <p:spPr>
          <a:xfrm>
            <a:off x="2133720" y="3173400"/>
            <a:ext cx="52578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4.2-Classifying Igneous Rock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assified according to their origin, texture, and mineral composi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rigi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trusive rock is igneous rock formed from lava the erupted onto Earth’s surface (ex. Basal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rusive rock is igneous rock formed when magma hardened beneath Earth’s surface (ex. granit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4.2- Classifying Igneous Rock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exture: depends on the size and shape of its mineral crysta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rusive rocks have larger crysta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trusive rocks have a fine-grained or glassy tex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ineral composition: the make-up of the rocks; most contain silic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silica content of magma and lava affects the type of rock they for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w silica= dark-colored ro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igh silica= light-colored ro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7:55:19Z</dcterms:created>
  <dc:creator>Falcon School District 49</dc:creator>
  <dc:description/>
  <dc:language>en-US</dc:language>
  <cp:lastModifiedBy>Alicia Arangio</cp:lastModifiedBy>
  <dcterms:modified xsi:type="dcterms:W3CDTF">2009-12-28T18:02:16Z</dcterms:modified>
  <cp:revision>34</cp:revision>
  <dc:subject/>
  <dc:title>Rocks </dc:title>
</cp:coreProperties>
</file>